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EB7-40ED-4E96-AEAE-F5959602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AE4-4B00-4685-A421-DEB6E40D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4D8-CFB8-47E9-9106-D23B6A8A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F88-4372-41DC-9981-3A0F0967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908-1C87-401C-8EC9-D948E54E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D15-BE4E-4890-9178-9D70EA1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DC6-3CF4-4205-B990-89BF7FE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B89-BF64-4CEA-82FD-2BA6398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680-D085-4216-A3E8-FAC7598B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385-A9C9-41F6-AF8A-B8338377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22B-9D2F-4616-9E7A-917744C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35F-4AD0-4A19-828B-6EDC610D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56B-2B10-4BB3-966F-A0854DEC13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63440"/>
            <a:ext cx="915192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om data to action: lowering the grasping dimensionalities through syner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2816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unimanual stacking.mp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ID_20130723_133237.mp4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unimanual stacking.mp4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916360" y="450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execut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VID_20130723_133237.mp4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unimanual stacking.mp4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VID_20130723_140625.mp4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2400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916360" y="450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executing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940360" y="623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.generaliz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hoosing the right precision is importa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VID_20130724_144446.mp4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4765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much precision is needed to grasp sufficiently well a class of obj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much can generalize a given set of primitives? How can we define the extension of an object cl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is the best learning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tion capture vs kinaesthetic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6360" y="338040"/>
            <a:ext cx="90712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G_20130712_185722.jpg"/>
          <p:cNvPicPr/>
          <p:nvPr/>
        </p:nvPicPr>
        <p:blipFill>
          <a:blip r:embed="rId1"/>
          <a:stretch/>
        </p:blipFill>
        <p:spPr>
          <a:xfrm>
            <a:off x="144360" y="144360"/>
            <a:ext cx="7452000" cy="558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_20130712_185648.jpg"/>
          <p:cNvPicPr/>
          <p:nvPr/>
        </p:nvPicPr>
        <p:blipFill>
          <a:blip r:embed="rId2"/>
          <a:stretch/>
        </p:blipFill>
        <p:spPr>
          <a:xfrm>
            <a:off x="826920" y="692280"/>
            <a:ext cx="8101080" cy="6075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108000" y="5842080"/>
            <a:ext cx="9036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How humans grasp object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VID_20130711_155242.mp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5213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ID_20130711_155242.mp4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5519520" cy="4140360"/>
          </a:xfrm>
          <a:prstGeom prst="rect">
            <a:avLst/>
          </a:prstGeom>
          <a:ln w="0">
            <a:noFill/>
          </a:ln>
        </p:spPr>
      </p:pic>
      <p:pic>
        <p:nvPicPr>
          <p:cNvPr id="52" name="MVI_4576.AVI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D_20130711_155242.mp4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5519520" cy="4140360"/>
          </a:xfrm>
          <a:prstGeom prst="rect">
            <a:avLst/>
          </a:prstGeom>
          <a:ln w="0">
            <a:noFill/>
          </a:ln>
        </p:spPr>
      </p:pic>
      <p:pic>
        <p:nvPicPr>
          <p:cNvPr id="54" name="MVI_4576.AVI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979640" y="1628640"/>
            <a:ext cx="5688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can be learned from a human demonstra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kinematics discrepancies between human and robot impact on the learn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6020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258920" y="2421000"/>
            <a:ext cx="66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rning from hum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late learned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haviours into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4T13:22:55Z</dcterms:created>
  <dc:creator>Giuseppe Cotugno</dc:creator>
  <dc:description/>
  <dc:language>en-US</dc:language>
  <cp:lastModifiedBy>Giuseppe Cotugno</cp:lastModifiedBy>
  <dcterms:modified xsi:type="dcterms:W3CDTF">2013-07-24T14:09:39Z</dcterms:modified>
  <cp:revision>9</cp:revision>
  <dc:subject/>
  <dc:title>Slide 1</dc:title>
</cp:coreProperties>
</file>